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CDE-6871-49B3-88AE-B0C55649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74C-E56C-434B-93F2-5E6A4BAB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B59-B827-4AE7-8F87-EF5D9448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938-E636-4710-BF57-0FF99EB4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F9E3-4C68-4DBA-8096-4DB193D7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30E4-1E4A-4039-8A49-4833E2B7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26C6-066B-40C7-AA5C-0CEC8398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0370-0477-4712-AD62-F257D533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70AA-CE19-4BE1-9ADC-6A070CA0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54A6-2AF2-4869-84A9-3995C303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2A8B-BD73-4CE4-B73A-1206C4D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1B2-958C-4666-95EB-A2D65361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BE14-D886-4CE6-ACCC-BC371559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D55A-AE57-492F-A9C0-93A031D2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804B-9ACD-43BB-8667-AE7532AA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6331-1F42-45D9-BDC8-C8F1001A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5BAE-EC92-4E01-9F41-E6D0E0D1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5DD-351A-45CD-92C9-98DCA7BE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715-BA30-44A1-876D-8C43A363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18D-EBE0-45EC-982E-773E29E9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962-51C4-46C3-931C-2A2CB11F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4A5-98F5-4D7D-B65E-EBC9ADF2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4A0-E3A8-4721-B4EE-0E95ABAB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70A-5BEE-4C55-A192-246147D5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4576-C86A-4C38-8054-E9E741C23F23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DDC5-577F-445A-A5E9-06DF1985BE6F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99"/>
                </a:solidFill>
                <a:latin typeface="Arial"/>
              </a:rPr>
              <a:t>Mon nom est: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9185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Mon sport préféré est :</a:t>
            </a:r>
            <a:br>
              <a:rPr sz="6000"/>
            </a:br>
            <a:br>
              <a:rPr sz="6000"/>
            </a:br>
            <a:r>
              <a:rPr b="0" lang="en-CA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’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57:51Z</dcterms:modified>
  <cp:revision>12</cp:revision>
  <dc:subject/>
  <dc:title>Le chien</dc:title>
</cp:coreProperties>
</file>